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7.jpeg" ContentType="image/jpeg"/>
  <Override PartName="/ppt/media/image12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2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9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wmf" ContentType="image/x-wmf"/>
  <Override PartName="/ppt/media/image24.wmf" ContentType="image/x-wmf"/>
  <Override PartName="/ppt/media/image9.jpeg" ContentType="image/jpeg"/>
  <Override PartName="/ppt/media/image2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C4F8-883B-4E8B-9A63-6588E20C21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, Molecules an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, Molecules and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radius ~ 100 pm =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us ~ 5 x 10-3 pm = 5 x 10-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Model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is the Houston Astrod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nucleus is a marble on the 50 yar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radius ~ 100 pm = 1 x 10-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us ~ 5 x 10-3 pm = 5 x 10-1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Model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is the Houston Astrod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nucleus is a marble on the 50 yar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dwick’s Experiment (19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atoms - 1 p; He atoms - 2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He/mass H should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He/mass H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(n) is neutral (charge 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mass ~ p mass = 1.67 x 10-2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dwick’s Experiment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atoms - 1 p; He atoms - 2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He/mass H should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He/mass H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(n) is neutral (charge = 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mass ~ p mass = 1.67 x 10-24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atomic Particles (Table 2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ss p = mass n = 1840 x mass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atomic Particles (Table 2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ss p = mass n = 1840 x mas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(Z) = number of protons in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(A) = number of protons + number of neu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atomic number (Z) + number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 atoms of the same element (X) with different numbers of neutr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(Z) = number of protons in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(A) = number of protons + 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atomic number (Z) + 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 atoms of the same element (X) with different numbers of neutrons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8 (14 - 6) neutrons, 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5 (11 - 6) neutrons, 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Understand Isotop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8 (14 - 6) neutrons, 6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5 (11 - 6) neutrons, 6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Understand Isoto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e is an aggregate of two or more atoms in a definite arrangement held together by chemical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tomic molecule contains only tw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, N2, O2, Br2, HCl,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molecule contains more than tw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, H2O, NH3, C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e is an aggregate of two or more atoms in a definite arrangement held together by 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tomic molecule contains only two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, N2, O2, Br2, HCl,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molecule contains more than two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, H2O, NH3, C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on is an atom, or group of atoms, that has a net positive or nega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 – ion with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loses one or mo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 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on – ion with a nega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gains one or mo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n an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on is an atom, or group of atoms, that has a net positive or nega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 – ion with a posi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loses one or mor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 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on – ion with a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gains one or mor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n an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monatomic ion contains only on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ion contains more than on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, Cl-, Ca2+, O2-, Al3+, N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, CN-, NH4+, NO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monatomic ion contains only on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ion contains more than on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, Cl-, Ca2+, O2-, Al3+, N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, CN-, NH4+, NO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 (18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extremely small particles called atoms.  All atoms of a given element are identical.  The atoms of one element are different from the atoms of all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are composed of atoms of more than one element. The relative number of atoms of each element in a given compound is alway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only involve the rearrangement of atoms. Atoms are not created or destroyed in chemical rea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 (18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extremely small particles called atoms.  All atoms of a given element are identical.  The atoms of one element are different from the atoms of all other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are composed of atoms of more than one element. The relative number of atoms of each element in a given compound is always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only involve the rearrangement of atoms. Atoms are not created or destroyed in chemical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protons, 10 (13 – 3)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protons, 36 (34 + 2)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Understand 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protons, 10 (13 – 3)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protons, 36 (34 + 2)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Understand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ar formula shows the exact number of atoms of each element in the smallest unit of a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pirical formula shows the simpl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-number ratio of the atoms in a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ar formula shows the exact number of atoms of each element in the smallest unit of a sub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pirical formula shows the simpl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-number ratio of the atoms in a sub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consist of a cation and an 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is always the same a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charges on the cation and anion in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unit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ic compound 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consist of a cation and an a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is always the same as the empirical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charges on the cation and anion in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unit must equal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ic compound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ula of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B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2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3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ula of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3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B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3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lyatomic Ions (Table 2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lyatomic Ions (Table 2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Nomenc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a metal + non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on (nonmetal), add “ide” to element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r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gnes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Nomencl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a metal + non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on (nonmetal), add “ide” to elemen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r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gnes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nit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charge on metal with Roman num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-  -2 so Fe is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) chlo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-  -3 so Fe is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I) chlo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2S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-2 -6 so Cr is +3 (6/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(III) sulf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charge on metal with Roman num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-  -2 so Fe is +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) chlor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-  -3 so Fe is +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I) chlor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2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-2 -6 so Cr is +3 (6/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(III) sulf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s or nonmetals + metall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NH3, CH4, C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further left in periodic table is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losest to bottom of group is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ore than one compound can be formed from the same elements, use prefixes to indicate number of each kind of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lement ends in 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s or nonmetals + metall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NH3, CH4, C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further left in periodic table is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losest to bottom of group is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ore than one compound can be formed from the same elements, use prefixes to indicate number of each kind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lement ends in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F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tri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lf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Cl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mon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F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triflu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lfur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Cl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tetra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mon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cid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ns (H+) when dissolv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e substance, hydrogen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solved in water (H+ Cl-),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xoacid is an acid that contains hydrogen, oxygen, and another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cid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ns (H+) when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e substance, hydrogen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solved in water (H+ Cl-), 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xoacid is an acid that contains hydrogen, oxygen, and another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ions (OH-) when dissolv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ions (OH-) when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X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X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J. Thomson, measured mass/charge of e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6 Nobel Prize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J. Thomson, measured mass/charge of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6 Nobel Prize in Phys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charge = -1.60 x 10-19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charge/mass of e- = -1.76 x 108 C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mass = 9.10 x 10-28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of e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23 Nobel Prize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charge = -1.60 x 10-19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charge/mass of e- = -1.76 x 108 C/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mass = 9.10 x 10-28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of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23 Nobel Prize in Phys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Uranium compou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Uranium compou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positive charge is concentrated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(p) has opposite (+) charge of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 is 1840 x mass of e- (1.67 x 10-24 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velocity ~ 1.4 x 107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~5% speed of 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8 Nobel Prize in Chemist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positive charge is concentrated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(p) has opposite (+) charge of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 is 1840 x mass of e- (1.67 x 10-24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velocity ~ 1.4 x 107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~5% speed of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8 Nobel Prize in Chemist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E71-9829-44F7-8351-91C00EC7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B92-7CA1-4FD6-98B3-E6AE19ED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E1D-9855-4E99-B96A-21F00749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8827-E287-4CA8-8ED4-0EAEC48F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960-961B-46E4-A0B5-3221DA91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CBD-6D43-4863-BDF9-9F3605BA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FC4-EC4C-48F5-8359-B59E3C02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3792-01EF-4885-850D-09A1267C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FBC0-A001-472F-A125-21C4F310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7097-83BB-4B43-8636-020F6326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072-9558-4FB0-8C4B-3079A3DC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EEA-6A4F-45D3-BCAC-8C341242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9CBC-1019-43DE-BFFB-EC006D5D8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s, Molecules and 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NA00119_"/>
          <p:cNvPicPr/>
          <p:nvPr/>
        </p:nvPicPr>
        <p:blipFill>
          <a:blip r:embed="rId1"/>
          <a:stretch/>
        </p:blipFill>
        <p:spPr>
          <a:xfrm>
            <a:off x="0" y="0"/>
            <a:ext cx="2320920" cy="232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NA00121_"/>
          <p:cNvPicPr/>
          <p:nvPr/>
        </p:nvPicPr>
        <p:blipFill>
          <a:blip r:embed="rId2"/>
          <a:stretch/>
        </p:blipFill>
        <p:spPr>
          <a:xfrm>
            <a:off x="5788080" y="4343400"/>
            <a:ext cx="33559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f0002_9l"/>
          <p:cNvPicPr/>
          <p:nvPr/>
        </p:nvPicPr>
        <p:blipFill>
          <a:blip r:embed="rId1"/>
          <a:srcRect l="0" t="23250" r="0" b="0"/>
          <a:stretch/>
        </p:blipFill>
        <p:spPr>
          <a:xfrm>
            <a:off x="914400" y="57240"/>
            <a:ext cx="7315200" cy="42098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486080" y="417672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radius ~ 100 pm = 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radius ~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m =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722120" y="177840"/>
            <a:ext cx="451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therford’s Model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1252440" y="5410080"/>
            <a:ext cx="66582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If the atom is the Houston Astrodome </a:t>
            </a:r>
            <a:endParaRPr b="1" lang="en-US" sz="2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Then the nucleus is a marble on the 50 yard line</a:t>
            </a:r>
            <a:endParaRPr b="1" lang="en-US" sz="2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wick’s Experiment (193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8120" y="1832040"/>
            <a:ext cx="5257800" cy="168984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atoms - 1 p; He atoms - 2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He/mass H should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mass He/mass H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1752480" y="1792440"/>
            <a:ext cx="855720" cy="163656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1"/>
          <p:cNvGrpSpPr/>
          <p:nvPr/>
        </p:nvGrpSpPr>
        <p:grpSpPr>
          <a:xfrm>
            <a:off x="1828800" y="4572000"/>
            <a:ext cx="5715000" cy="546120"/>
            <a:chOff x="1828800" y="4572000"/>
            <a:chExt cx="5715000" cy="546120"/>
          </a:xfrm>
        </p:grpSpPr>
        <p:sp>
          <p:nvSpPr>
            <p:cNvPr id="102" name="Text Box 6"/>
            <p:cNvSpPr/>
            <p:nvPr/>
          </p:nvSpPr>
          <p:spPr>
            <a:xfrm>
              <a:off x="1828800" y="4572000"/>
              <a:ext cx="154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3529080" y="4876920"/>
              <a:ext cx="84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8"/>
            <p:cNvSpPr/>
            <p:nvPr/>
          </p:nvSpPr>
          <p:spPr>
            <a:xfrm>
              <a:off x="4456080" y="4597560"/>
              <a:ext cx="308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+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+ energ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9"/>
          <p:cNvSpPr/>
          <p:nvPr/>
        </p:nvSpPr>
        <p:spPr>
          <a:xfrm>
            <a:off x="685800" y="5257800"/>
            <a:ext cx="556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eutron (n) is neutral (charge =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ma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 mass = 1.6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ject 10" descr=""/>
          <p:cNvPicPr/>
          <p:nvPr/>
        </p:nvPicPr>
        <p:blipFill>
          <a:blip r:embed="rId2"/>
          <a:stretch/>
        </p:blipFill>
        <p:spPr>
          <a:xfrm>
            <a:off x="7302600" y="4495680"/>
            <a:ext cx="1841400" cy="1720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628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tomic Particles (Table 2.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677880" y="2031840"/>
          <a:ext cx="7432560" cy="38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2031840"/>
                    <a:ext cx="7432560" cy="38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4"/>
          <p:cNvSpPr/>
          <p:nvPr/>
        </p:nvSpPr>
        <p:spPr>
          <a:xfrm>
            <a:off x="1295280" y="58672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ss p = mass n = 1840 x mass e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6320" y="231840"/>
            <a:ext cx="8991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omic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s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= number of protons + number of neut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atomic number (Z) + number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atoms of the same element (X) with different numbers of neutr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4178880" y="3048120"/>
            <a:ext cx="772560" cy="815040"/>
            <a:chOff x="4178880" y="3048120"/>
            <a:chExt cx="772560" cy="815040"/>
          </a:xfrm>
        </p:grpSpPr>
        <p:sp>
          <p:nvSpPr>
            <p:cNvPr id="115" name="Text Box 4"/>
            <p:cNvSpPr/>
            <p:nvPr/>
          </p:nvSpPr>
          <p:spPr>
            <a:xfrm>
              <a:off x="4439880" y="3117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5"/>
            <p:cNvSpPr/>
            <p:nvPr/>
          </p:nvSpPr>
          <p:spPr>
            <a:xfrm>
              <a:off x="417888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4213080" y="3403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478600" y="4145040"/>
            <a:ext cx="4633920" cy="751680"/>
            <a:chOff x="2478600" y="4145040"/>
            <a:chExt cx="4633920" cy="751680"/>
          </a:xfrm>
        </p:grpSpPr>
        <p:grpSp>
          <p:nvGrpSpPr>
            <p:cNvPr id="119" name="Group 8"/>
            <p:cNvGrpSpPr/>
            <p:nvPr/>
          </p:nvGrpSpPr>
          <p:grpSpPr>
            <a:xfrm>
              <a:off x="2478600" y="4145040"/>
              <a:ext cx="685440" cy="751680"/>
              <a:chOff x="2478600" y="4145040"/>
              <a:chExt cx="685440" cy="751680"/>
            </a:xfrm>
          </p:grpSpPr>
          <p:sp>
            <p:nvSpPr>
              <p:cNvPr id="120" name="Text Box 9"/>
              <p:cNvSpPr/>
              <p:nvPr/>
            </p:nvSpPr>
            <p:spPr>
              <a:xfrm>
                <a:off x="2652480" y="421632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10"/>
              <p:cNvSpPr/>
              <p:nvPr/>
            </p:nvSpPr>
            <p:spPr>
              <a:xfrm>
                <a:off x="24786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11"/>
              <p:cNvSpPr/>
              <p:nvPr/>
            </p:nvSpPr>
            <p:spPr>
              <a:xfrm>
                <a:off x="24786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12"/>
            <p:cNvGrpSpPr/>
            <p:nvPr/>
          </p:nvGrpSpPr>
          <p:grpSpPr>
            <a:xfrm>
              <a:off x="3821400" y="4145040"/>
              <a:ext cx="1447200" cy="751680"/>
              <a:chOff x="3821400" y="4145040"/>
              <a:chExt cx="1447200" cy="751680"/>
            </a:xfrm>
          </p:grpSpPr>
          <p:sp>
            <p:nvSpPr>
              <p:cNvPr id="124" name="Text Box 13"/>
              <p:cNvSpPr/>
              <p:nvPr/>
            </p:nvSpPr>
            <p:spPr>
              <a:xfrm>
                <a:off x="3995280" y="4214880"/>
                <a:ext cx="1273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14"/>
              <p:cNvSpPr/>
              <p:nvPr/>
            </p:nvSpPr>
            <p:spPr>
              <a:xfrm>
                <a:off x="38214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15"/>
              <p:cNvSpPr/>
              <p:nvPr/>
            </p:nvSpPr>
            <p:spPr>
              <a:xfrm>
                <a:off x="38214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16"/>
            <p:cNvGrpSpPr/>
            <p:nvPr/>
          </p:nvGrpSpPr>
          <p:grpSpPr>
            <a:xfrm>
              <a:off x="5716800" y="4145040"/>
              <a:ext cx="1395720" cy="751680"/>
              <a:chOff x="5716800" y="4145040"/>
              <a:chExt cx="1395720" cy="751680"/>
            </a:xfrm>
          </p:grpSpPr>
          <p:sp>
            <p:nvSpPr>
              <p:cNvPr id="128" name="Text Box 17"/>
              <p:cNvSpPr/>
              <p:nvPr/>
            </p:nvSpPr>
            <p:spPr>
              <a:xfrm>
                <a:off x="5891040" y="4214880"/>
                <a:ext cx="1221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8"/>
              <p:cNvSpPr/>
              <p:nvPr/>
            </p:nvSpPr>
            <p:spPr>
              <a:xfrm>
                <a:off x="57168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9"/>
              <p:cNvSpPr/>
              <p:nvPr/>
            </p:nvSpPr>
            <p:spPr>
              <a:xfrm>
                <a:off x="57168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Group 28"/>
          <p:cNvGrpSpPr/>
          <p:nvPr/>
        </p:nvGrpSpPr>
        <p:grpSpPr>
          <a:xfrm>
            <a:off x="2920320" y="5180040"/>
            <a:ext cx="3152160" cy="751680"/>
            <a:chOff x="2920320" y="5180040"/>
            <a:chExt cx="3152160" cy="751680"/>
          </a:xfrm>
        </p:grpSpPr>
        <p:grpSp>
          <p:nvGrpSpPr>
            <p:cNvPr id="132" name="Group 20"/>
            <p:cNvGrpSpPr/>
            <p:nvPr/>
          </p:nvGrpSpPr>
          <p:grpSpPr>
            <a:xfrm>
              <a:off x="2920320" y="5180040"/>
              <a:ext cx="1116360" cy="751680"/>
              <a:chOff x="2920320" y="5180040"/>
              <a:chExt cx="1116360" cy="751680"/>
            </a:xfrm>
          </p:grpSpPr>
          <p:sp>
            <p:nvSpPr>
              <p:cNvPr id="133" name="Text Box 21"/>
              <p:cNvSpPr/>
              <p:nvPr/>
            </p:nvSpPr>
            <p:spPr>
              <a:xfrm>
                <a:off x="3525120" y="521316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22"/>
              <p:cNvSpPr/>
              <p:nvPr/>
            </p:nvSpPr>
            <p:spPr>
              <a:xfrm>
                <a:off x="2920320" y="51800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23"/>
              <p:cNvSpPr/>
              <p:nvPr/>
            </p:nvSpPr>
            <p:spPr>
              <a:xfrm>
                <a:off x="3084840" y="54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24"/>
            <p:cNvGrpSpPr/>
            <p:nvPr/>
          </p:nvGrpSpPr>
          <p:grpSpPr>
            <a:xfrm>
              <a:off x="4955400" y="5180040"/>
              <a:ext cx="1117080" cy="751680"/>
              <a:chOff x="4955400" y="5180040"/>
              <a:chExt cx="1117080" cy="751680"/>
            </a:xfrm>
          </p:grpSpPr>
          <p:sp>
            <p:nvSpPr>
              <p:cNvPr id="137" name="Text Box 25"/>
              <p:cNvSpPr/>
              <p:nvPr/>
            </p:nvSpPr>
            <p:spPr>
              <a:xfrm>
                <a:off x="5560920" y="521316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26"/>
              <p:cNvSpPr/>
              <p:nvPr/>
            </p:nvSpPr>
            <p:spPr>
              <a:xfrm>
                <a:off x="4955400" y="51800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27"/>
              <p:cNvSpPr/>
              <p:nvPr/>
            </p:nvSpPr>
            <p:spPr>
              <a:xfrm>
                <a:off x="5120280" y="54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Group 38"/>
          <p:cNvGrpSpPr/>
          <p:nvPr/>
        </p:nvGrpSpPr>
        <p:grpSpPr>
          <a:xfrm>
            <a:off x="1983960" y="3030480"/>
            <a:ext cx="2223000" cy="398880"/>
            <a:chOff x="1983960" y="3030480"/>
            <a:chExt cx="2223000" cy="398880"/>
          </a:xfrm>
        </p:grpSpPr>
        <p:sp>
          <p:nvSpPr>
            <p:cNvPr id="141" name="Text Box 29"/>
            <p:cNvSpPr/>
            <p:nvPr/>
          </p:nvSpPr>
          <p:spPr>
            <a:xfrm>
              <a:off x="1983960" y="3030480"/>
              <a:ext cx="183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>
              <a:off x="3673440" y="324468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9"/>
          <p:cNvGrpSpPr/>
          <p:nvPr/>
        </p:nvGrpSpPr>
        <p:grpSpPr>
          <a:xfrm>
            <a:off x="1829520" y="3425760"/>
            <a:ext cx="2377440" cy="398880"/>
            <a:chOff x="1829520" y="3425760"/>
            <a:chExt cx="2377440" cy="398880"/>
          </a:xfrm>
        </p:grpSpPr>
        <p:sp>
          <p:nvSpPr>
            <p:cNvPr id="144" name="Text Box 30"/>
            <p:cNvSpPr/>
            <p:nvPr/>
          </p:nvSpPr>
          <p:spPr>
            <a:xfrm>
              <a:off x="1829520" y="3425760"/>
              <a:ext cx="193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tomic Nu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>
              <a:off x="3673440" y="364320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37"/>
          <p:cNvGrpSpPr/>
          <p:nvPr/>
        </p:nvGrpSpPr>
        <p:grpSpPr>
          <a:xfrm>
            <a:off x="4909680" y="3255840"/>
            <a:ext cx="2536560" cy="398880"/>
            <a:chOff x="4909680" y="3255840"/>
            <a:chExt cx="2536560" cy="398880"/>
          </a:xfrm>
        </p:grpSpPr>
        <p:sp>
          <p:nvSpPr>
            <p:cNvPr id="147" name="Text Box 35"/>
            <p:cNvSpPr/>
            <p:nvPr/>
          </p:nvSpPr>
          <p:spPr>
            <a:xfrm>
              <a:off x="5413680" y="3255840"/>
              <a:ext cx="20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 flipH="1">
              <a:off x="4909680" y="345924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4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ma02_01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380880"/>
            <a:ext cx="8128080" cy="56390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380880" y="1928880"/>
            <a:ext cx="8416440" cy="713520"/>
            <a:chOff x="380880" y="1928880"/>
            <a:chExt cx="8416440" cy="713520"/>
          </a:xfrm>
        </p:grpSpPr>
        <p:sp>
          <p:nvSpPr>
            <p:cNvPr id="153" name="Text Box 3"/>
            <p:cNvSpPr/>
            <p:nvPr/>
          </p:nvSpPr>
          <p:spPr>
            <a:xfrm>
              <a:off x="380880" y="2025720"/>
              <a:ext cx="72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, neutrons,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7621200" y="1928880"/>
              <a:ext cx="965160" cy="713520"/>
              <a:chOff x="7621200" y="1928880"/>
              <a:chExt cx="965160" cy="713520"/>
            </a:xfrm>
          </p:grpSpPr>
          <p:sp>
            <p:nvSpPr>
              <p:cNvPr id="155" name="Text Box 5"/>
              <p:cNvSpPr/>
              <p:nvPr/>
            </p:nvSpPr>
            <p:spPr>
              <a:xfrm>
                <a:off x="8100720" y="19605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6"/>
              <p:cNvSpPr/>
              <p:nvPr/>
            </p:nvSpPr>
            <p:spPr>
              <a:xfrm>
                <a:off x="7621200" y="19288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"/>
              <p:cNvSpPr/>
              <p:nvPr/>
            </p:nvSpPr>
            <p:spPr>
              <a:xfrm>
                <a:off x="7786440" y="2182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8"/>
            <p:cNvSpPr/>
            <p:nvPr/>
          </p:nvSpPr>
          <p:spPr>
            <a:xfrm>
              <a:off x="8459640" y="1995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420840" y="4038480"/>
            <a:ext cx="8416440" cy="713520"/>
            <a:chOff x="420840" y="4038480"/>
            <a:chExt cx="8416440" cy="713520"/>
          </a:xfrm>
        </p:grpSpPr>
        <p:sp>
          <p:nvSpPr>
            <p:cNvPr id="160" name="Text Box 10"/>
            <p:cNvSpPr/>
            <p:nvPr/>
          </p:nvSpPr>
          <p:spPr>
            <a:xfrm>
              <a:off x="420840" y="4135320"/>
              <a:ext cx="72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, neutrons,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11"/>
            <p:cNvGrpSpPr/>
            <p:nvPr/>
          </p:nvGrpSpPr>
          <p:grpSpPr>
            <a:xfrm>
              <a:off x="7661160" y="4038480"/>
              <a:ext cx="965160" cy="713520"/>
              <a:chOff x="7661160" y="4038480"/>
              <a:chExt cx="965160" cy="713520"/>
            </a:xfrm>
          </p:grpSpPr>
          <p:sp>
            <p:nvSpPr>
              <p:cNvPr id="162" name="Text Box 12"/>
              <p:cNvSpPr/>
              <p:nvPr/>
            </p:nvSpPr>
            <p:spPr>
              <a:xfrm>
                <a:off x="8140680" y="40701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13"/>
              <p:cNvSpPr/>
              <p:nvPr/>
            </p:nvSpPr>
            <p:spPr>
              <a:xfrm>
                <a:off x="766116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14"/>
              <p:cNvSpPr/>
              <p:nvPr/>
            </p:nvSpPr>
            <p:spPr>
              <a:xfrm>
                <a:off x="7826400" y="4292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15"/>
            <p:cNvSpPr/>
            <p:nvPr/>
          </p:nvSpPr>
          <p:spPr>
            <a:xfrm>
              <a:off x="8499600" y="41050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16"/>
          <p:cNvSpPr/>
          <p:nvPr/>
        </p:nvSpPr>
        <p:spPr>
          <a:xfrm>
            <a:off x="1212840" y="290844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tons, 8 (14 - 6) neutrons, 6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216080" y="496584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tons, 5 (11 - 6) neutrons, 6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1418400" y="423720"/>
            <a:ext cx="63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Understand Isotop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Object 19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f0002_10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4"/>
          <p:cNvGrpSpPr/>
          <p:nvPr/>
        </p:nvGrpSpPr>
        <p:grpSpPr>
          <a:xfrm>
            <a:off x="1319040" y="2870280"/>
            <a:ext cx="2448000" cy="402840"/>
            <a:chOff x="1319040" y="2870280"/>
            <a:chExt cx="2448000" cy="402840"/>
          </a:xfrm>
        </p:grpSpPr>
        <p:sp>
          <p:nvSpPr>
            <p:cNvPr id="173" name="Text Box 4"/>
            <p:cNvSpPr/>
            <p:nvPr/>
          </p:nvSpPr>
          <p:spPr>
            <a:xfrm>
              <a:off x="2014560" y="2870280"/>
              <a:ext cx="971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5"/>
            <p:cNvSpPr/>
            <p:nvPr/>
          </p:nvSpPr>
          <p:spPr>
            <a:xfrm>
              <a:off x="2928960" y="307332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1319040" y="307332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9"/>
          <p:cNvGrpSpPr/>
          <p:nvPr/>
        </p:nvGrpSpPr>
        <p:grpSpPr>
          <a:xfrm>
            <a:off x="6628320" y="2219400"/>
            <a:ext cx="402840" cy="2419200"/>
            <a:chOff x="6628320" y="2219400"/>
            <a:chExt cx="402840" cy="2419200"/>
          </a:xfrm>
        </p:grpSpPr>
        <p:sp>
          <p:nvSpPr>
            <p:cNvPr id="177" name="Text Box 16"/>
            <p:cNvSpPr/>
            <p:nvPr/>
          </p:nvSpPr>
          <p:spPr>
            <a:xfrm rot="5400000">
              <a:off x="6359760" y="3151080"/>
              <a:ext cx="9396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6831360" y="38005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6831360" y="221940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4"/>
          <p:cNvGrpSpPr/>
          <p:nvPr/>
        </p:nvGrpSpPr>
        <p:grpSpPr>
          <a:xfrm>
            <a:off x="95760" y="1528920"/>
            <a:ext cx="402840" cy="3171240"/>
            <a:chOff x="95760" y="1528920"/>
            <a:chExt cx="402840" cy="3171240"/>
          </a:xfrm>
        </p:grpSpPr>
        <p:sp>
          <p:nvSpPr>
            <p:cNvPr id="181" name="Text Box 21"/>
            <p:cNvSpPr/>
            <p:nvPr/>
          </p:nvSpPr>
          <p:spPr>
            <a:xfrm rot="5400000">
              <a:off x="-526680" y="2829960"/>
              <a:ext cx="16480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302040" y="3862440"/>
              <a:ext cx="0" cy="837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>
              <a:off x="302040" y="1528920"/>
              <a:ext cx="0" cy="685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9"/>
          <p:cNvGrpSpPr/>
          <p:nvPr/>
        </p:nvGrpSpPr>
        <p:grpSpPr>
          <a:xfrm>
            <a:off x="8669520" y="1620720"/>
            <a:ext cx="402840" cy="2928960"/>
            <a:chOff x="8669520" y="1620720"/>
            <a:chExt cx="402840" cy="2928960"/>
          </a:xfrm>
        </p:grpSpPr>
        <p:sp>
          <p:nvSpPr>
            <p:cNvPr id="185" name="Text Box 26"/>
            <p:cNvSpPr/>
            <p:nvPr/>
          </p:nvSpPr>
          <p:spPr>
            <a:xfrm rot="5400000">
              <a:off x="8105400" y="2863440"/>
              <a:ext cx="153072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>
              <a:off x="8874000" y="371124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8"/>
            <p:cNvSpPr/>
            <p:nvPr/>
          </p:nvSpPr>
          <p:spPr>
            <a:xfrm>
              <a:off x="8874000" y="16207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4"/>
          <p:cNvGrpSpPr/>
          <p:nvPr/>
        </p:nvGrpSpPr>
        <p:grpSpPr>
          <a:xfrm>
            <a:off x="8160120" y="2004840"/>
            <a:ext cx="402840" cy="2671920"/>
            <a:chOff x="8160120" y="2004840"/>
            <a:chExt cx="402840" cy="2671920"/>
          </a:xfrm>
        </p:grpSpPr>
        <p:sp>
          <p:nvSpPr>
            <p:cNvPr id="189" name="Text Box 31"/>
            <p:cNvSpPr/>
            <p:nvPr/>
          </p:nvSpPr>
          <p:spPr>
            <a:xfrm rot="5400000">
              <a:off x="7749360" y="3094920"/>
              <a:ext cx="1224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>
              <a:off x="8366040" y="383868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>
              <a:off x="8366040" y="2004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39"/>
          <p:cNvGrpSpPr/>
          <p:nvPr/>
        </p:nvGrpSpPr>
        <p:grpSpPr>
          <a:xfrm>
            <a:off x="624240" y="760320"/>
            <a:ext cx="402840" cy="3978360"/>
            <a:chOff x="624240" y="760320"/>
            <a:chExt cx="402840" cy="3978360"/>
          </a:xfrm>
        </p:grpSpPr>
        <p:sp>
          <p:nvSpPr>
            <p:cNvPr id="193" name="Text Box 36"/>
            <p:cNvSpPr/>
            <p:nvPr/>
          </p:nvSpPr>
          <p:spPr>
            <a:xfrm rot="5400000">
              <a:off x="-405360" y="2467800"/>
              <a:ext cx="24620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7"/>
            <p:cNvSpPr/>
            <p:nvPr/>
          </p:nvSpPr>
          <p:spPr>
            <a:xfrm>
              <a:off x="82872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8"/>
            <p:cNvSpPr/>
            <p:nvPr/>
          </p:nvSpPr>
          <p:spPr>
            <a:xfrm>
              <a:off x="82872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4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1280" y="380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ggregate of two or more atoms in a definite arrangement held together by chemical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2"/>
          <p:cNvGrpSpPr/>
          <p:nvPr/>
        </p:nvGrpSpPr>
        <p:grpSpPr>
          <a:xfrm>
            <a:off x="1512720" y="1523880"/>
            <a:ext cx="6116760" cy="1796040"/>
            <a:chOff x="1512720" y="1523880"/>
            <a:chExt cx="6116760" cy="1796040"/>
          </a:xfrm>
        </p:grpSpPr>
        <p:pic>
          <p:nvPicPr>
            <p:cNvPr id="199" name="Picture 3" descr="f002_12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512720" y="152388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4"/>
            <p:cNvSpPr/>
            <p:nvPr/>
          </p:nvSpPr>
          <p:spPr>
            <a:xfrm>
              <a:off x="1761480" y="280980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3170880" y="28098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"/>
            <p:cNvSpPr/>
            <p:nvPr/>
          </p:nvSpPr>
          <p:spPr>
            <a:xfrm>
              <a:off x="4962600" y="280980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6548760" y="280980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9"/>
          <p:cNvSpPr/>
          <p:nvPr/>
        </p:nvSpPr>
        <p:spPr>
          <a:xfrm>
            <a:off x="533520" y="3657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atomic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884320" y="4267080"/>
            <a:ext cx="337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76320" y="51055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3242160" y="5700600"/>
            <a:ext cx="266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8532360" y="64008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318960" y="22860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tom, or group of atoms, that has a net positive or negative 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21120" y="1293840"/>
            <a:ext cx="824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on with a posi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utral at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r mor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omes a 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307440" y="4114800"/>
            <a:ext cx="826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on with a nega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utral at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r mor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omes an a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7"/>
          <p:cNvGrpSpPr/>
          <p:nvPr/>
        </p:nvGrpSpPr>
        <p:grpSpPr>
          <a:xfrm>
            <a:off x="1104840" y="2666880"/>
            <a:ext cx="3114360" cy="1295280"/>
            <a:chOff x="1104840" y="2666880"/>
            <a:chExt cx="3114360" cy="1295280"/>
          </a:xfrm>
        </p:grpSpPr>
        <p:grpSp>
          <p:nvGrpSpPr>
            <p:cNvPr id="213" name="Group 10"/>
            <p:cNvGrpSpPr/>
            <p:nvPr/>
          </p:nvGrpSpPr>
          <p:grpSpPr>
            <a:xfrm>
              <a:off x="1104840" y="2666880"/>
              <a:ext cx="1295280" cy="1295280"/>
              <a:chOff x="1104840" y="2666880"/>
              <a:chExt cx="1295280" cy="1295280"/>
            </a:xfrm>
          </p:grpSpPr>
          <p:sp>
            <p:nvSpPr>
              <p:cNvPr id="214" name="Oval 6"/>
              <p:cNvSpPr/>
              <p:nvPr/>
            </p:nvSpPr>
            <p:spPr>
              <a:xfrm>
                <a:off x="1104840" y="266688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7"/>
              <p:cNvSpPr/>
              <p:nvPr/>
            </p:nvSpPr>
            <p:spPr>
              <a:xfrm>
                <a:off x="1411560" y="3054240"/>
                <a:ext cx="63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 Box 20"/>
            <p:cNvSpPr/>
            <p:nvPr/>
          </p:nvSpPr>
          <p:spPr>
            <a:xfrm>
              <a:off x="2649960" y="29638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8"/>
          <p:cNvGrpSpPr/>
          <p:nvPr/>
        </p:nvGrpSpPr>
        <p:grpSpPr>
          <a:xfrm>
            <a:off x="5638680" y="2819520"/>
            <a:ext cx="2896920" cy="1143000"/>
            <a:chOff x="5638680" y="2819520"/>
            <a:chExt cx="2896920" cy="1143000"/>
          </a:xfrm>
        </p:grpSpPr>
        <p:grpSp>
          <p:nvGrpSpPr>
            <p:cNvPr id="218" name="Group 11"/>
            <p:cNvGrpSpPr/>
            <p:nvPr/>
          </p:nvGrpSpPr>
          <p:grpSpPr>
            <a:xfrm>
              <a:off x="5638680" y="2819520"/>
              <a:ext cx="1143000" cy="1143000"/>
              <a:chOff x="5638680" y="2819520"/>
              <a:chExt cx="1143000" cy="1143000"/>
            </a:xfrm>
          </p:grpSpPr>
          <p:sp>
            <p:nvSpPr>
              <p:cNvPr id="219" name="Oval 8"/>
              <p:cNvSpPr/>
              <p:nvPr/>
            </p:nvSpPr>
            <p:spPr>
              <a:xfrm>
                <a:off x="5638680" y="2819520"/>
                <a:ext cx="114300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9"/>
              <p:cNvSpPr/>
              <p:nvPr/>
            </p:nvSpPr>
            <p:spPr>
              <a:xfrm>
                <a:off x="5832360" y="3132360"/>
                <a:ext cx="75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1"/>
            <p:cNvSpPr/>
            <p:nvPr/>
          </p:nvSpPr>
          <p:spPr>
            <a:xfrm>
              <a:off x="6966360" y="30322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9"/>
          <p:cNvGrpSpPr/>
          <p:nvPr/>
        </p:nvGrpSpPr>
        <p:grpSpPr>
          <a:xfrm>
            <a:off x="1181160" y="5486400"/>
            <a:ext cx="3038040" cy="1143000"/>
            <a:chOff x="1181160" y="5486400"/>
            <a:chExt cx="3038040" cy="1143000"/>
          </a:xfrm>
        </p:grpSpPr>
        <p:grpSp>
          <p:nvGrpSpPr>
            <p:cNvPr id="223" name="Group 23"/>
            <p:cNvGrpSpPr/>
            <p:nvPr/>
          </p:nvGrpSpPr>
          <p:grpSpPr>
            <a:xfrm>
              <a:off x="1181160" y="5486400"/>
              <a:ext cx="1143000" cy="1143000"/>
              <a:chOff x="1181160" y="5486400"/>
              <a:chExt cx="1143000" cy="1143000"/>
            </a:xfrm>
          </p:grpSpPr>
          <p:sp>
            <p:nvSpPr>
              <p:cNvPr id="224" name="Oval 14"/>
              <p:cNvSpPr/>
              <p:nvPr/>
            </p:nvSpPr>
            <p:spPr>
              <a:xfrm>
                <a:off x="1181160" y="548640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15"/>
              <p:cNvSpPr/>
              <p:nvPr/>
            </p:nvSpPr>
            <p:spPr>
              <a:xfrm>
                <a:off x="1494720" y="579780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Text Box 22"/>
            <p:cNvSpPr/>
            <p:nvPr/>
          </p:nvSpPr>
          <p:spPr>
            <a:xfrm>
              <a:off x="2649960" y="57070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30"/>
          <p:cNvGrpSpPr/>
          <p:nvPr/>
        </p:nvGrpSpPr>
        <p:grpSpPr>
          <a:xfrm>
            <a:off x="5486400" y="5334120"/>
            <a:ext cx="3049200" cy="1447560"/>
            <a:chOff x="5486400" y="5334120"/>
            <a:chExt cx="3049200" cy="1447560"/>
          </a:xfrm>
        </p:grpSpPr>
        <p:grpSp>
          <p:nvGrpSpPr>
            <p:cNvPr id="228" name="Group 24"/>
            <p:cNvGrpSpPr/>
            <p:nvPr/>
          </p:nvGrpSpPr>
          <p:grpSpPr>
            <a:xfrm>
              <a:off x="5486400" y="5334120"/>
              <a:ext cx="1447920" cy="1447560"/>
              <a:chOff x="5486400" y="5334120"/>
              <a:chExt cx="1447920" cy="1447560"/>
            </a:xfrm>
          </p:grpSpPr>
          <p:sp>
            <p:nvSpPr>
              <p:cNvPr id="229" name="Oval 18"/>
              <p:cNvSpPr/>
              <p:nvPr/>
            </p:nvSpPr>
            <p:spPr>
              <a:xfrm>
                <a:off x="5486400" y="533412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9"/>
              <p:cNvSpPr/>
              <p:nvPr/>
            </p:nvSpPr>
            <p:spPr>
              <a:xfrm>
                <a:off x="5916960" y="5873760"/>
                <a:ext cx="58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Text Box 26"/>
            <p:cNvSpPr/>
            <p:nvPr/>
          </p:nvSpPr>
          <p:spPr>
            <a:xfrm>
              <a:off x="6966360" y="569916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1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18960" y="914400"/>
            <a:ext cx="70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natomic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only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23280" y="3697200"/>
            <a:ext cx="77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more than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2438640" y="1461960"/>
            <a:ext cx="42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2867400" y="4357800"/>
            <a:ext cx="341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8" descr="BD04924_"/>
          <p:cNvPicPr/>
          <p:nvPr/>
        </p:nvPicPr>
        <p:blipFill>
          <a:blip r:embed="rId1"/>
          <a:stretch/>
        </p:blipFill>
        <p:spPr>
          <a:xfrm>
            <a:off x="7240680" y="98280"/>
            <a:ext cx="1903320" cy="2568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9" descr="j0072955"/>
          <p:cNvPicPr/>
          <p:nvPr/>
        </p:nvPicPr>
        <p:blipFill>
          <a:blip r:embed="rId2"/>
          <a:stretch/>
        </p:blipFill>
        <p:spPr>
          <a:xfrm>
            <a:off x="0" y="5168880"/>
            <a:ext cx="16923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ton’s Atomic Theory (180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99072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osed of extremely small particles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All atoms of a given element are identical.  The atoms of one element are different from the atoms of all other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28600" y="293364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osed of atoms of more than one element. The relative number of atoms of each element in a given compound is always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8600" y="48769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s only involve the rearrangement of atoms. Atoms are not created or destroyed in chemical reac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6"/>
          <p:cNvSpPr/>
          <p:nvPr/>
        </p:nvSpPr>
        <p:spPr>
          <a:xfrm>
            <a:off x="1923480" y="2908440"/>
            <a:ext cx="53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1918800" y="4965840"/>
            <a:ext cx="53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1850400" y="423720"/>
            <a:ext cx="54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Understand 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19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4"/>
          <p:cNvGrpSpPr/>
          <p:nvPr/>
        </p:nvGrpSpPr>
        <p:grpSpPr>
          <a:xfrm>
            <a:off x="994320" y="1905120"/>
            <a:ext cx="7156440" cy="713520"/>
            <a:chOff x="994320" y="1905120"/>
            <a:chExt cx="7156440" cy="713520"/>
          </a:xfrm>
        </p:grpSpPr>
        <p:sp>
          <p:nvSpPr>
            <p:cNvPr id="246" name="Text Box 3"/>
            <p:cNvSpPr/>
            <p:nvPr/>
          </p:nvSpPr>
          <p:spPr>
            <a:xfrm>
              <a:off x="994320" y="2001960"/>
              <a:ext cx="57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"/>
            <p:cNvSpPr/>
            <p:nvPr/>
          </p:nvSpPr>
          <p:spPr>
            <a:xfrm>
              <a:off x="7016760" y="19368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"/>
            <p:cNvSpPr/>
            <p:nvPr/>
          </p:nvSpPr>
          <p:spPr>
            <a:xfrm>
              <a:off x="6665760" y="1905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7"/>
            <p:cNvSpPr/>
            <p:nvPr/>
          </p:nvSpPr>
          <p:spPr>
            <a:xfrm>
              <a:off x="6673680" y="2158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7636320" y="1981080"/>
              <a:ext cx="5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2"/>
            <p:cNvSpPr/>
            <p:nvPr/>
          </p:nvSpPr>
          <p:spPr>
            <a:xfrm>
              <a:off x="7467480" y="19051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3"/>
          <p:cNvGrpSpPr/>
          <p:nvPr/>
        </p:nvGrpSpPr>
        <p:grpSpPr>
          <a:xfrm>
            <a:off x="978480" y="4038480"/>
            <a:ext cx="7209720" cy="713520"/>
            <a:chOff x="978480" y="4038480"/>
            <a:chExt cx="7209720" cy="713520"/>
          </a:xfrm>
        </p:grpSpPr>
        <p:sp>
          <p:nvSpPr>
            <p:cNvPr id="253" name="Text Box 26"/>
            <p:cNvSpPr/>
            <p:nvPr/>
          </p:nvSpPr>
          <p:spPr>
            <a:xfrm>
              <a:off x="978480" y="4125960"/>
              <a:ext cx="57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27"/>
            <p:cNvGrpSpPr/>
            <p:nvPr/>
          </p:nvGrpSpPr>
          <p:grpSpPr>
            <a:xfrm>
              <a:off x="6707160" y="4038480"/>
              <a:ext cx="1190880" cy="713520"/>
              <a:chOff x="6707160" y="4038480"/>
              <a:chExt cx="1190880" cy="713520"/>
            </a:xfrm>
          </p:grpSpPr>
          <p:sp>
            <p:nvSpPr>
              <p:cNvPr id="255" name="Text Box 28"/>
              <p:cNvSpPr/>
              <p:nvPr/>
            </p:nvSpPr>
            <p:spPr>
              <a:xfrm>
                <a:off x="7072560" y="411768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29"/>
              <p:cNvSpPr/>
              <p:nvPr/>
            </p:nvSpPr>
            <p:spPr>
              <a:xfrm>
                <a:off x="670716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7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30"/>
              <p:cNvSpPr/>
              <p:nvPr/>
            </p:nvSpPr>
            <p:spPr>
              <a:xfrm>
                <a:off x="6719760" y="42922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3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31"/>
              <p:cNvSpPr/>
              <p:nvPr/>
            </p:nvSpPr>
            <p:spPr>
              <a:xfrm>
                <a:off x="7462800" y="4051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2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32"/>
            <p:cNvSpPr/>
            <p:nvPr/>
          </p:nvSpPr>
          <p:spPr>
            <a:xfrm>
              <a:off x="7850520" y="4092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7" descr="f002_11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f002_12l"/>
          <p:cNvPicPr/>
          <p:nvPr/>
        </p:nvPicPr>
        <p:blipFill>
          <a:blip r:embed="rId1"/>
          <a:stretch/>
        </p:blipFill>
        <p:spPr>
          <a:xfrm>
            <a:off x="507960" y="763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500040" y="36684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cular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exact number of atoms of each element in the smallest unit of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502560" y="2057400"/>
            <a:ext cx="768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simpl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-number ratio of the atoms in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5602320" y="38559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6"/>
          <p:cNvGrpSpPr/>
          <p:nvPr/>
        </p:nvGrpSpPr>
        <p:grpSpPr>
          <a:xfrm>
            <a:off x="2059920" y="3276720"/>
            <a:ext cx="4826520" cy="1160640"/>
            <a:chOff x="2059920" y="3276720"/>
            <a:chExt cx="4826520" cy="1160640"/>
          </a:xfrm>
        </p:grpSpPr>
        <p:sp>
          <p:nvSpPr>
            <p:cNvPr id="268" name="Text Box 6"/>
            <p:cNvSpPr/>
            <p:nvPr/>
          </p:nvSpPr>
          <p:spPr>
            <a:xfrm>
              <a:off x="2576520" y="3857760"/>
              <a:ext cx="82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8"/>
            <p:cNvSpPr/>
            <p:nvPr/>
          </p:nvSpPr>
          <p:spPr>
            <a:xfrm>
              <a:off x="2059920" y="3276720"/>
              <a:ext cx="186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molecul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5143680" y="32767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empir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0"/>
          <p:cNvSpPr/>
          <p:nvPr/>
        </p:nvSpPr>
        <p:spPr>
          <a:xfrm>
            <a:off x="2276280" y="4483080"/>
            <a:ext cx="142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474160" y="4481640"/>
            <a:ext cx="108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2704680" y="521640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5786640" y="52164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2528280" y="5803920"/>
            <a:ext cx="92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5610600" y="580392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f002_13l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3276720"/>
            <a:ext cx="8128080" cy="307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228600" y="304920"/>
            <a:ext cx="86868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 of a cation and an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ula is always the same as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charges on the cation and anion in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 unit must equal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444400" y="2681280"/>
            <a:ext cx="42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1888560" y="182520"/>
            <a:ext cx="53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of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070880" y="1600200"/>
            <a:ext cx="10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3"/>
          <p:cNvGrpSpPr/>
          <p:nvPr/>
        </p:nvGrpSpPr>
        <p:grpSpPr>
          <a:xfrm>
            <a:off x="2664360" y="1143000"/>
            <a:ext cx="3625920" cy="533520"/>
            <a:chOff x="2664360" y="1143000"/>
            <a:chExt cx="3625920" cy="533520"/>
          </a:xfrm>
        </p:grpSpPr>
        <p:grpSp>
          <p:nvGrpSpPr>
            <p:cNvPr id="286" name="Group 9"/>
            <p:cNvGrpSpPr/>
            <p:nvPr/>
          </p:nvGrpSpPr>
          <p:grpSpPr>
            <a:xfrm>
              <a:off x="2664360" y="1143000"/>
              <a:ext cx="1526760" cy="533520"/>
              <a:chOff x="2664360" y="1143000"/>
              <a:chExt cx="1526760" cy="533520"/>
            </a:xfrm>
          </p:grpSpPr>
          <p:sp>
            <p:nvSpPr>
              <p:cNvPr id="287" name="Text Box 4"/>
              <p:cNvSpPr/>
              <p:nvPr/>
            </p:nvSpPr>
            <p:spPr>
              <a:xfrm>
                <a:off x="2664360" y="11430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2 x +3 = +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7"/>
              <p:cNvSpPr/>
              <p:nvPr/>
            </p:nvSpPr>
            <p:spPr>
              <a:xfrm>
                <a:off x="4038480" y="1447920"/>
                <a:ext cx="15264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10"/>
            <p:cNvGrpSpPr/>
            <p:nvPr/>
          </p:nvGrpSpPr>
          <p:grpSpPr>
            <a:xfrm>
              <a:off x="4876560" y="1143000"/>
              <a:ext cx="1413720" cy="533520"/>
              <a:chOff x="4876560" y="1143000"/>
              <a:chExt cx="1413720" cy="533520"/>
            </a:xfrm>
          </p:grpSpPr>
          <p:sp>
            <p:nvSpPr>
              <p:cNvPr id="290" name="Text Box 6"/>
              <p:cNvSpPr/>
              <p:nvPr/>
            </p:nvSpPr>
            <p:spPr>
              <a:xfrm>
                <a:off x="4955760" y="11430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3 x -2 = -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8"/>
              <p:cNvSpPr/>
              <p:nvPr/>
            </p:nvSpPr>
            <p:spPr>
              <a:xfrm flipH="1">
                <a:off x="4876560" y="14479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Text Box 11"/>
          <p:cNvSpPr/>
          <p:nvPr/>
        </p:nvSpPr>
        <p:spPr>
          <a:xfrm>
            <a:off x="3223080" y="1981080"/>
            <a:ext cx="7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123880" y="1981080"/>
            <a:ext cx="6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4017960" y="3267000"/>
            <a:ext cx="110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2664360" y="2809800"/>
            <a:ext cx="3625920" cy="533520"/>
            <a:chOff x="2664360" y="2809800"/>
            <a:chExt cx="3625920" cy="533520"/>
          </a:xfrm>
        </p:grpSpPr>
        <p:grpSp>
          <p:nvGrpSpPr>
            <p:cNvPr id="296" name="Group 14"/>
            <p:cNvGrpSpPr/>
            <p:nvPr/>
          </p:nvGrpSpPr>
          <p:grpSpPr>
            <a:xfrm>
              <a:off x="2664360" y="2809800"/>
              <a:ext cx="1526760" cy="533520"/>
              <a:chOff x="2664360" y="2809800"/>
              <a:chExt cx="1526760" cy="533520"/>
            </a:xfrm>
          </p:grpSpPr>
          <p:sp>
            <p:nvSpPr>
              <p:cNvPr id="297" name="Text Box 15"/>
              <p:cNvSpPr/>
              <p:nvPr/>
            </p:nvSpPr>
            <p:spPr>
              <a:xfrm>
                <a:off x="2664360" y="28098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+2 = 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16"/>
              <p:cNvSpPr/>
              <p:nvPr/>
            </p:nvSpPr>
            <p:spPr>
              <a:xfrm>
                <a:off x="4038480" y="3114720"/>
                <a:ext cx="15264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7"/>
            <p:cNvGrpSpPr/>
            <p:nvPr/>
          </p:nvGrpSpPr>
          <p:grpSpPr>
            <a:xfrm>
              <a:off x="4876560" y="2809800"/>
              <a:ext cx="1413720" cy="533520"/>
              <a:chOff x="4876560" y="2809800"/>
              <a:chExt cx="1413720" cy="533520"/>
            </a:xfrm>
          </p:grpSpPr>
          <p:sp>
            <p:nvSpPr>
              <p:cNvPr id="300" name="Text Box 18"/>
              <p:cNvSpPr/>
              <p:nvPr/>
            </p:nvSpPr>
            <p:spPr>
              <a:xfrm>
                <a:off x="4955760" y="28098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2 x -1 = 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9"/>
              <p:cNvSpPr/>
              <p:nvPr/>
            </p:nvSpPr>
            <p:spPr>
              <a:xfrm flipH="1">
                <a:off x="4876560" y="31147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Text Box 20"/>
          <p:cNvSpPr/>
          <p:nvPr/>
        </p:nvSpPr>
        <p:spPr>
          <a:xfrm>
            <a:off x="3153600" y="3648240"/>
            <a:ext cx="8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5140440" y="3648240"/>
            <a:ext cx="6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r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2"/>
          <p:cNvSpPr/>
          <p:nvPr/>
        </p:nvSpPr>
        <p:spPr>
          <a:xfrm>
            <a:off x="3874680" y="5257800"/>
            <a:ext cx="139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1"/>
          <p:cNvGrpSpPr/>
          <p:nvPr/>
        </p:nvGrpSpPr>
        <p:grpSpPr>
          <a:xfrm>
            <a:off x="2666160" y="4800600"/>
            <a:ext cx="3625560" cy="533520"/>
            <a:chOff x="2666160" y="4800600"/>
            <a:chExt cx="3625560" cy="533520"/>
          </a:xfrm>
        </p:grpSpPr>
        <p:grpSp>
          <p:nvGrpSpPr>
            <p:cNvPr id="306" name="Group 23"/>
            <p:cNvGrpSpPr/>
            <p:nvPr/>
          </p:nvGrpSpPr>
          <p:grpSpPr>
            <a:xfrm>
              <a:off x="2666160" y="4800600"/>
              <a:ext cx="1526040" cy="533520"/>
              <a:chOff x="2666160" y="4800600"/>
              <a:chExt cx="1526040" cy="533520"/>
            </a:xfrm>
          </p:grpSpPr>
          <p:sp>
            <p:nvSpPr>
              <p:cNvPr id="307" name="Text Box 24"/>
              <p:cNvSpPr/>
              <p:nvPr/>
            </p:nvSpPr>
            <p:spPr>
              <a:xfrm>
                <a:off x="2666160" y="48006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+2 = 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25"/>
              <p:cNvSpPr/>
              <p:nvPr/>
            </p:nvSpPr>
            <p:spPr>
              <a:xfrm>
                <a:off x="4039920" y="51055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26"/>
            <p:cNvGrpSpPr/>
            <p:nvPr/>
          </p:nvGrpSpPr>
          <p:grpSpPr>
            <a:xfrm>
              <a:off x="4878000" y="4800600"/>
              <a:ext cx="1413720" cy="533520"/>
              <a:chOff x="4878000" y="4800600"/>
              <a:chExt cx="1413720" cy="533520"/>
            </a:xfrm>
          </p:grpSpPr>
          <p:sp>
            <p:nvSpPr>
              <p:cNvPr id="310" name="Text Box 27"/>
              <p:cNvSpPr/>
              <p:nvPr/>
            </p:nvSpPr>
            <p:spPr>
              <a:xfrm>
                <a:off x="4957200" y="48006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-2 = 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28"/>
              <p:cNvSpPr/>
              <p:nvPr/>
            </p:nvSpPr>
            <p:spPr>
              <a:xfrm flipH="1">
                <a:off x="4878000" y="51055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Text Box 29"/>
          <p:cNvSpPr/>
          <p:nvPr/>
        </p:nvSpPr>
        <p:spPr>
          <a:xfrm>
            <a:off x="3211560" y="56386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5209200" y="5638680"/>
            <a:ext cx="101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lyatomic Ions (Table 2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3"/>
          <p:cNvGraphicFramePr/>
          <p:nvPr/>
        </p:nvGraphicFramePr>
        <p:xfrm>
          <a:off x="692280" y="1676520"/>
          <a:ext cx="7634160" cy="40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76520"/>
                    <a:ext cx="76341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Nomencl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 metal + non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on (nonmetal), add “ide” to elemen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2298600" y="3092400"/>
            <a:ext cx="1064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956120" y="309096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2298240" y="37018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4955040" y="370044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2299680" y="4311720"/>
            <a:ext cx="155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4956480" y="4309920"/>
            <a:ext cx="36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s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298600" y="5035680"/>
            <a:ext cx="106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4954680" y="503388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metal ionic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 charge on metal with Roman num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94200" y="2481120"/>
            <a:ext cx="10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758600" y="248292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2 so Fe is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5734800" y="242712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(II) chlor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94200" y="3319560"/>
            <a:ext cx="10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1758600" y="332100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3 so Fe is 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5734080" y="335124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(III) chlo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403920" y="4113360"/>
            <a:ext cx="102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1768680" y="4114800"/>
            <a:ext cx="39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6 so Cr is +3 (6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5734800" y="411480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ium(III)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metals or nonmetals + metall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ore than one compound can be formed from the same elements, use prefixes to indicate number of each kind of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element ends in 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0002_2l"/>
          <p:cNvPicPr/>
          <p:nvPr/>
        </p:nvPicPr>
        <p:blipFill>
          <a:blip r:embed="rId1"/>
          <a:stretch/>
        </p:blipFill>
        <p:spPr>
          <a:xfrm>
            <a:off x="501480" y="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304920" y="5181480"/>
            <a:ext cx="4114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288280" y="3927600"/>
            <a:ext cx="325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2243160" y="5486400"/>
            <a:ext cx="464832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w of Multiple Proportions</a:t>
            </a:r>
            <a:endParaRPr b="1" lang="en-US" sz="32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992520" y="1293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669760" y="1293840"/>
            <a:ext cx="27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003680" y="2093760"/>
            <a:ext cx="76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669400" y="2093760"/>
            <a:ext cx="30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1002960" y="28558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2668680" y="2855880"/>
            <a:ext cx="22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014120" y="3656160"/>
            <a:ext cx="10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669760" y="3656160"/>
            <a:ext cx="38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t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1003320" y="449424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2669760" y="4494240"/>
            <a:ext cx="26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1003320" y="52563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2670480" y="525636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2552760" y="3319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9"/>
          <p:cNvGrpSpPr/>
          <p:nvPr/>
        </p:nvGrpSpPr>
        <p:grpSpPr>
          <a:xfrm>
            <a:off x="5718600" y="4114800"/>
            <a:ext cx="3041280" cy="1066680"/>
            <a:chOff x="5718600" y="4114800"/>
            <a:chExt cx="3041280" cy="1066680"/>
          </a:xfrm>
        </p:grpSpPr>
        <p:sp>
          <p:nvSpPr>
            <p:cNvPr id="357" name="Text Box 14"/>
            <p:cNvSpPr/>
            <p:nvPr/>
          </p:nvSpPr>
          <p:spPr>
            <a:xfrm>
              <a:off x="5718600" y="445788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OXI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18" descr="SY00732_"/>
            <p:cNvPicPr/>
            <p:nvPr/>
          </p:nvPicPr>
          <p:blipFill>
            <a:blip r:embed="rId1"/>
            <a:stretch/>
          </p:blipFill>
          <p:spPr>
            <a:xfrm>
              <a:off x="7238880" y="4114800"/>
              <a:ext cx="15210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9" name="Group 21"/>
          <p:cNvGrpSpPr/>
          <p:nvPr/>
        </p:nvGrpSpPr>
        <p:grpSpPr>
          <a:xfrm>
            <a:off x="6518880" y="5256360"/>
            <a:ext cx="2286720" cy="1404720"/>
            <a:chOff x="6518880" y="5256360"/>
            <a:chExt cx="2286720" cy="1404720"/>
          </a:xfrm>
        </p:grpSpPr>
        <p:sp>
          <p:nvSpPr>
            <p:cNvPr id="360" name="Text Box 15"/>
            <p:cNvSpPr/>
            <p:nvPr/>
          </p:nvSpPr>
          <p:spPr>
            <a:xfrm>
              <a:off x="6518880" y="5256360"/>
              <a:ext cx="228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aughin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G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Picture 20" descr="j0139029"/>
            <p:cNvPicPr/>
            <p:nvPr/>
          </p:nvPicPr>
          <p:blipFill>
            <a:blip r:embed="rId2"/>
            <a:stretch/>
          </p:blipFill>
          <p:spPr>
            <a:xfrm>
              <a:off x="7086600" y="5715000"/>
              <a:ext cx="987480" cy="94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304560" y="304920"/>
            <a:ext cx="816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fined as a substance that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ns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701280" y="1371600"/>
            <a:ext cx="774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substance, hydrogen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in water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hydrochl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04920" y="32004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xo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cid that contains hydrogen, oxygen, and another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1"/>
          <p:cNvGrpSpPr/>
          <p:nvPr/>
        </p:nvGrpSpPr>
        <p:grpSpPr>
          <a:xfrm>
            <a:off x="2592360" y="4451400"/>
            <a:ext cx="3973680" cy="581040"/>
            <a:chOff x="2592360" y="4451400"/>
            <a:chExt cx="3973680" cy="581040"/>
          </a:xfrm>
        </p:grpSpPr>
        <p:sp>
          <p:nvSpPr>
            <p:cNvPr id="366" name="Text Box 5"/>
            <p:cNvSpPr/>
            <p:nvPr/>
          </p:nvSpPr>
          <p:spPr>
            <a:xfrm>
              <a:off x="2592360" y="445284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6"/>
            <p:cNvSpPr/>
            <p:nvPr/>
          </p:nvSpPr>
          <p:spPr>
            <a:xfrm>
              <a:off x="4879440" y="4451400"/>
              <a:ext cx="168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itr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2"/>
          <p:cNvGrpSpPr/>
          <p:nvPr/>
        </p:nvGrpSpPr>
        <p:grpSpPr>
          <a:xfrm>
            <a:off x="2615760" y="5133960"/>
            <a:ext cx="4545360" cy="581040"/>
            <a:chOff x="2615760" y="5133960"/>
            <a:chExt cx="4545360" cy="581040"/>
          </a:xfrm>
        </p:grpSpPr>
        <p:sp>
          <p:nvSpPr>
            <p:cNvPr id="369" name="Text Box 7"/>
            <p:cNvSpPr/>
            <p:nvPr/>
          </p:nvSpPr>
          <p:spPr>
            <a:xfrm>
              <a:off x="2615760" y="5135400"/>
              <a:ext cx="119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4880160" y="513396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rbon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3"/>
          <p:cNvGrpSpPr/>
          <p:nvPr/>
        </p:nvGrpSpPr>
        <p:grpSpPr>
          <a:xfrm>
            <a:off x="2615400" y="5818320"/>
            <a:ext cx="4326840" cy="579600"/>
            <a:chOff x="2615400" y="5818320"/>
            <a:chExt cx="4326840" cy="579600"/>
          </a:xfrm>
        </p:grpSpPr>
        <p:sp>
          <p:nvSpPr>
            <p:cNvPr id="372" name="Text Box 8"/>
            <p:cNvSpPr/>
            <p:nvPr/>
          </p:nvSpPr>
          <p:spPr>
            <a:xfrm>
              <a:off x="2615400" y="5818320"/>
              <a:ext cx="1177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"/>
            <p:cNvSpPr/>
            <p:nvPr/>
          </p:nvSpPr>
          <p:spPr>
            <a:xfrm>
              <a:off x="4879440" y="5818320"/>
              <a:ext cx="206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lfur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f002_14l"/>
          <p:cNvPicPr/>
          <p:nvPr/>
        </p:nvPicPr>
        <p:blipFill>
          <a:blip r:embed="rId1"/>
          <a:stretch/>
        </p:blipFill>
        <p:spPr>
          <a:xfrm>
            <a:off x="507960" y="1522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304920" y="806400"/>
            <a:ext cx="80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fined as a substance that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xide ions (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5"/>
          <p:cNvGrpSpPr/>
          <p:nvPr/>
        </p:nvGrpSpPr>
        <p:grpSpPr>
          <a:xfrm>
            <a:off x="2362320" y="2362320"/>
            <a:ext cx="5408640" cy="522000"/>
            <a:chOff x="2362320" y="2362320"/>
            <a:chExt cx="5408640" cy="522000"/>
          </a:xfrm>
        </p:grpSpPr>
        <p:sp>
          <p:nvSpPr>
            <p:cNvPr id="379" name="Text Box 6"/>
            <p:cNvSpPr/>
            <p:nvPr/>
          </p:nvSpPr>
          <p:spPr>
            <a:xfrm>
              <a:off x="2362320" y="2363760"/>
              <a:ext cx="129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a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4648320" y="2362320"/>
              <a:ext cx="312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d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8"/>
          <p:cNvGrpSpPr/>
          <p:nvPr/>
        </p:nvGrpSpPr>
        <p:grpSpPr>
          <a:xfrm>
            <a:off x="2364840" y="3044880"/>
            <a:ext cx="5733720" cy="522000"/>
            <a:chOff x="2364840" y="3044880"/>
            <a:chExt cx="5733720" cy="522000"/>
          </a:xfrm>
        </p:grpSpPr>
        <p:sp>
          <p:nvSpPr>
            <p:cNvPr id="382" name="Text Box 9"/>
            <p:cNvSpPr/>
            <p:nvPr/>
          </p:nvSpPr>
          <p:spPr>
            <a:xfrm>
              <a:off x="2364840" y="3046320"/>
              <a:ext cx="94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K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"/>
            <p:cNvSpPr/>
            <p:nvPr/>
          </p:nvSpPr>
          <p:spPr>
            <a:xfrm>
              <a:off x="4650480" y="3044880"/>
              <a:ext cx="344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otass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1"/>
          <p:cNvGrpSpPr/>
          <p:nvPr/>
        </p:nvGrpSpPr>
        <p:grpSpPr>
          <a:xfrm>
            <a:off x="2375280" y="3728880"/>
            <a:ext cx="5188680" cy="579600"/>
            <a:chOff x="2375280" y="3728880"/>
            <a:chExt cx="5188680" cy="579600"/>
          </a:xfrm>
        </p:grpSpPr>
        <p:sp>
          <p:nvSpPr>
            <p:cNvPr id="385" name="Text Box 12"/>
            <p:cNvSpPr/>
            <p:nvPr/>
          </p:nvSpPr>
          <p:spPr>
            <a:xfrm>
              <a:off x="2375280" y="3728880"/>
              <a:ext cx="1499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3"/>
            <p:cNvSpPr/>
            <p:nvPr/>
          </p:nvSpPr>
          <p:spPr>
            <a:xfrm>
              <a:off x="4650840" y="3728880"/>
              <a:ext cx="291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r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6" descr="BD05176_"/>
          <p:cNvPicPr/>
          <p:nvPr/>
        </p:nvPicPr>
        <p:blipFill>
          <a:blip r:embed="rId1"/>
          <a:stretch/>
        </p:blipFill>
        <p:spPr>
          <a:xfrm>
            <a:off x="228600" y="4495680"/>
            <a:ext cx="2187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0002_1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152280"/>
            <a:ext cx="8128080" cy="56390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2438280" y="5105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238880" y="5105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6954480" y="5029200"/>
            <a:ext cx="100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8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2"/>
          <p:cNvGrpSpPr/>
          <p:nvPr/>
        </p:nvGrpSpPr>
        <p:grpSpPr>
          <a:xfrm>
            <a:off x="928440" y="5030640"/>
            <a:ext cx="3502800" cy="520560"/>
            <a:chOff x="928440" y="5030640"/>
            <a:chExt cx="3502800" cy="520560"/>
          </a:xfrm>
        </p:grpSpPr>
        <p:sp>
          <p:nvSpPr>
            <p:cNvPr id="67" name="Text Box 7"/>
            <p:cNvSpPr/>
            <p:nvPr/>
          </p:nvSpPr>
          <p:spPr>
            <a:xfrm>
              <a:off x="928440" y="5030640"/>
              <a:ext cx="88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16 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8"/>
            <p:cNvSpPr/>
            <p:nvPr/>
          </p:nvSpPr>
          <p:spPr>
            <a:xfrm>
              <a:off x="3753720" y="503064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8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0"/>
            <p:cNvSpPr/>
            <p:nvPr/>
          </p:nvSpPr>
          <p:spPr>
            <a:xfrm>
              <a:off x="2589480" y="5030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Line 11"/>
          <p:cNvSpPr/>
          <p:nvPr/>
        </p:nvSpPr>
        <p:spPr>
          <a:xfrm>
            <a:off x="5105520" y="532116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3"/>
          <p:cNvSpPr txBox="1"/>
          <p:nvPr/>
        </p:nvSpPr>
        <p:spPr>
          <a:xfrm>
            <a:off x="2171880" y="5715000"/>
            <a:ext cx="480060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w of Conservation of Mass</a:t>
            </a:r>
            <a:endParaRPr b="1" lang="en-US" sz="32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0002_3l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5372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895480" y="5638680"/>
            <a:ext cx="6324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J. Thomson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d mass/charge of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06 Nobel Prize in Phys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f0002_5l"/>
          <p:cNvPicPr/>
          <p:nvPr/>
        </p:nvPicPr>
        <p:blipFill>
          <a:blip r:embed="rId1"/>
          <a:stretch/>
        </p:blipFill>
        <p:spPr>
          <a:xfrm>
            <a:off x="76320" y="38160"/>
            <a:ext cx="6248160" cy="4686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04920" y="4952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502920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= -1.6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son’s charge/mass of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.7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ss = 9.1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559480" y="1676520"/>
            <a:ext cx="35229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d mass of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923 Nobel Prize in Phy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0002_6l"/>
          <p:cNvPicPr/>
          <p:nvPr/>
        </p:nvPicPr>
        <p:blipFill>
          <a:blip r:embed="rId1"/>
          <a:stretch/>
        </p:blipFill>
        <p:spPr>
          <a:xfrm>
            <a:off x="507960" y="763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5568120" y="596412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ranium comp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0002_7l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0002_8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76320"/>
            <a:ext cx="812808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934320" y="5029200"/>
            <a:ext cx="533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718920" y="5265720"/>
            <a:ext cx="77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toms positive charge is concentrated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 (p) has opposite (+) charge of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of p is 1840 x mass of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.6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240160" y="4348080"/>
            <a:ext cx="39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 velocity ~ 1.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~5% speed of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322720" y="11415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08 Nobel Prize in Chemi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01:59:52Z</dcterms:created>
  <dc:creator>J. David Robertson</dc:creator>
  <dc:description/>
  <dc:language>en-US</dc:language>
  <cp:lastModifiedBy>RomaK</cp:lastModifiedBy>
  <dcterms:modified xsi:type="dcterms:W3CDTF">2015-09-01T16:17:33Z</dcterms:modified>
  <cp:revision>35</cp:revision>
  <dc:subject/>
  <dc:title>Atoms, Molecules and Ions</dc:title>
</cp:coreProperties>
</file>